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604-3F3D-4F7F-BF3F-87D5DC48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1D7-D72C-4E27-B462-D45E15BB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E8D-DD40-480D-B816-2A375D78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6281-4A4F-4DF8-ABE2-8ACAFD7C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B46-9211-497E-9E9E-5ECAE7C4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134-BF8E-407F-BB22-E6EBD1C8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0DA-C233-45D7-A144-FD7FD10E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D5B-49FC-4D52-A70A-96F93EFF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2AE-D6AD-4E31-B973-F5E62DDB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B31-A398-43EE-8F1A-42CD9644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AB9-5DA0-4676-8C35-A784F2F6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967-8B43-4BFC-AA02-69DE0AD0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D4AA-86D3-483C-AE1C-804ACF02B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house gas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21200" y="5451480"/>
            <a:ext cx="352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93480" y="5791320"/>
            <a:ext cx="31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Kadesha Sm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th period Dr.Scea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文宋体"/>
                <a:ea typeface="华文宋体"/>
              </a:rPr>
              <a:t>Greenhouse 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150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999"/>
                </a:solidFill>
                <a:latin typeface="#궁서체"/>
                <a:ea typeface="#궁서체"/>
              </a:rPr>
              <a:t>already in the atmosp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150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999"/>
                </a:solidFill>
                <a:latin typeface="#궁서체"/>
                <a:ea typeface="#궁서체"/>
              </a:rPr>
              <a:t>will continue to do damage for years to c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150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999"/>
                </a:solidFill>
                <a:latin typeface="#궁서체"/>
                <a:ea typeface="#궁서체"/>
              </a:rPr>
              <a:t>damage from gases will be added during th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150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999"/>
                </a:solidFill>
                <a:latin typeface="#궁서체"/>
                <a:ea typeface="#궁서체"/>
              </a:rPr>
              <a:t>it would take to implement any public or private sector plans to curb future emissions.</a:t>
            </a:r>
            <a:r>
              <a:rPr b="0" lang="en-US" sz="3200" spc="-1" strike="noStrike">
                <a:solidFill>
                  <a:srgbClr val="150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00400" y="4484520"/>
            <a:ext cx="2743200" cy="2352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019920" y="4484520"/>
            <a:ext cx="2743200" cy="2373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4599000"/>
            <a:ext cx="31240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7:24:27Z</dcterms:created>
  <dc:creator>PA Department of Education</dc:creator>
  <dc:description/>
  <dc:language>en-US</dc:language>
  <cp:lastModifiedBy>PA Department of Education</cp:lastModifiedBy>
  <dcterms:modified xsi:type="dcterms:W3CDTF">2009-05-22T17:44:36Z</dcterms:modified>
  <cp:revision>5</cp:revision>
  <dc:subject/>
  <dc:title>Greenhouse Gases</dc:title>
</cp:coreProperties>
</file>